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C52AF-2E9D-4F95-99DF-A095EF00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6B2-1E3F-46F9-A457-F6FEC978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E53-BF29-48E6-81A7-A0426B59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65A-E1FF-4C07-AB96-D13048A7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E60-4FA7-4DA1-899F-80CA748C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A1B-9AB5-437B-913A-FE8E5CAF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DCB-D8AD-417B-A389-47D147D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4A9-2802-4CA8-9A6D-DD0BC183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BE2-FF65-46E1-9A92-71F976CB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366-4A3C-4887-B376-8B47ACB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1D5-5128-4B26-B860-7A89E3A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253-1383-4F72-A836-8F4A78CB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065-A6CD-45C7-AEF9-F7C888A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997B2-1ED5-4CB9-AC02-B998C6A1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485640"/>
            <a:ext cx="800100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1420" dir="2700000" blurRad="0" rotWithShape="0">
                    <a:srgbClr val="000000"/>
                  </a:outerShdw>
                </a:effectLst>
                <a:latin typeface="Times New Roman"/>
              </a:rPr>
              <a:t>Monk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1420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605480"/>
            <a:ext cx="45720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 Montgo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Kreis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Wierb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Fur Fasten to his c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d head was Sh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 Prominent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ves and hood were fine f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 b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91280" y="1768320"/>
            <a:ext cx="41497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ot – Head of mona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ble – pleasing in behavior and app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ate – Bishop of superior r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nty - Excell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778280" cy="48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ks attributes place him in the clergy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t go the things of yesterday, and took the modern worlds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very manly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3280" y="1803240"/>
            <a:ext cx="442584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78040" y="1768320"/>
            <a:ext cx="3678120" cy="49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k was a man of high st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man of God. And although he was expected to follow strict rules, he took a more modern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one of a kind mo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5000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cal allusions of St. Benet and St. Ma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making and introducing behavior of monk to F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584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Augustine of Hippo who encouraged monks engaging in agriculture la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ads back to the monk's love for hun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3:53:10Z</dcterms:created>
  <dc:creator>PCSC</dc:creator>
  <dc:description/>
  <dc:language>en-US</dc:language>
  <cp:lastModifiedBy>PHS</cp:lastModifiedBy>
  <dcterms:modified xsi:type="dcterms:W3CDTF">2009-10-21T13:24:22Z</dcterms:modified>
  <cp:revision>1</cp:revision>
  <dc:subject/>
  <dc:title>Slide 1</dc:title>
</cp:coreProperties>
</file>